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6CEE195-7CC3-455A-8935-8D0A97317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B0FE177-88CB-4145-83E0-3A51D39CB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B2C82B4-CF9A-493F-9DCD-E84558603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B324E20-37BF-4C1B-B852-53D66CD58E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BA46A6D-E678-4250-A172-4CF3CC739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8299210-40EC-42A2-81B0-69205C54D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BE2E1C-F552-477E-BCE9-2A49BB69C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367B38-8674-4DC6-8729-F03E972E3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C0F0A2-BC6F-4330-9D73-159A3D8B2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FB4EA0-6138-47D6-8B3E-5B3C21240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A8C57C-7C5B-4E60-AFA5-3E050D66F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B4B8E9-BC39-49DE-A566-11B05397E9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8EAF-83E0-451D-9191-A164DC429DDD}"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28BB-3B96-49B8-BFF5-4DF4A1A29664}" type="datetime">
              <a:rPr b="0" lang="en-US" sz="1200" spc="-1" strike="noStrike">
                <a:solidFill>
                  <a:srgbClr val="dfdcb7"/>
                </a:solidFill>
                <a:latin typeface="Calibri"/>
              </a:rPr>
              <a:t>07/31/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381880" cy="668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75e47"/>
                </a:solidFill>
                <a:latin typeface="Cambria"/>
              </a:rPr>
              <a:t>h</a:t>
            </a:r>
            <a:br>
              <a:rPr sz="6600"/>
            </a:br>
            <a:r>
              <a:rPr b="1" lang="fr-FR" sz="2400" spc="-1" strike="noStrike">
                <a:solidFill>
                  <a:srgbClr val="675e47"/>
                </a:solidFill>
                <a:latin typeface="Times New Roman"/>
                <a:ea typeface="MS PGothic"/>
              </a:rPr>
              <a:t>Kamal LAGTATI </a:t>
            </a:r>
            <a:br>
              <a:rPr sz="2400"/>
            </a:br>
            <a:r>
              <a:rPr b="1" lang="fr-FR" sz="2400" spc="-1" strike="noStrike">
                <a:solidFill>
                  <a:srgbClr val="675e47"/>
                </a:solidFill>
                <a:latin typeface="Times New Roman"/>
                <a:ea typeface="MS PGothic"/>
              </a:rPr>
              <a:t>Enseignant chercheur </a:t>
            </a:r>
            <a:br>
              <a:rPr sz="2400"/>
            </a:br>
            <a:r>
              <a:rPr b="1" lang="fr-FR" sz="2400" spc="-1" strike="noStrike">
                <a:solidFill>
                  <a:srgbClr val="675e47"/>
                </a:solidFill>
                <a:latin typeface="Times New Roman"/>
                <a:ea typeface="MS PGothic"/>
              </a:rPr>
              <a:t>EST Lâayoune </a:t>
            </a:r>
            <a:br>
              <a:rPr sz="6600"/>
            </a:br>
            <a:endParaRPr b="0" lang="en-US" sz="24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
        <p:nvSpPr>
          <p:cNvPr id="45" name="ZoneTexte 2"/>
          <p:cNvSpPr/>
          <p:nvPr/>
        </p:nvSpPr>
        <p:spPr>
          <a:xfrm>
            <a:off x="0" y="1455840"/>
            <a:ext cx="788832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675e47"/>
                </a:solidFill>
                <a:latin typeface="Calibri"/>
              </a:rPr>
              <a:t>Droit de la famille</a:t>
            </a:r>
            <a:endParaRPr b="0" lang="en-US" sz="6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675e47"/>
                </a:solidFill>
                <a:latin typeface="Calibri"/>
              </a:rPr>
              <a:t>Séance 4</a:t>
            </a: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47" name="Image 3" descr=""/>
          <p:cNvPicPr/>
          <p:nvPr/>
        </p:nvPicPr>
        <p:blipFill>
          <a:blip r:embed="rId1"/>
          <a:stretch/>
        </p:blipFill>
        <p:spPr>
          <a:xfrm>
            <a:off x="0" y="0"/>
            <a:ext cx="8381880" cy="1455840"/>
          </a:xfrm>
          <a:prstGeom prst="rect">
            <a:avLst/>
          </a:prstGeom>
          <a:ln w="0">
            <a:noFill/>
          </a:ln>
        </p:spPr>
      </p:pic>
      <p:sp>
        <p:nvSpPr>
          <p:cNvPr id="48" name="ZoneTexte 2"/>
          <p:cNvSpPr/>
          <p:nvPr/>
        </p:nvSpPr>
        <p:spPr>
          <a:xfrm>
            <a:off x="0" y="1455840"/>
            <a:ext cx="8516880" cy="56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Les effets de la dissolution du mariag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dissolution du mariage peut avoir des effets patrimoniaux et des effets extrapatrimoniaux.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effets extrapatrimoniaux du divorc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L’observation de la retraite légale (Idda)</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Toute femme divorcée est obligée d’observer une période de continence dont la durée varie selon le mode de dissolution du mariage et selon l’état de la femm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1- cas de la femme divorcée enceint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retraite légale de la femme enceinte doit durer jusqu’à la délivrance sauf s’il y a eu une interruption ( fausse couche) Article 33 du code de la famil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f2b20"/>
                </a:solidFill>
                <a:latin typeface="Calibri"/>
              </a:rPr>
              <a:t> </a:t>
            </a:r>
            <a:r>
              <a:rPr b="0" lang="fr-FR" sz="2000" spc="-1" strike="noStrike">
                <a:solidFill>
                  <a:srgbClr val="2f2b20"/>
                </a:solidFill>
                <a:latin typeface="Calibri"/>
              </a:rPr>
              <a:t>En cas de contestation sur l’état de grossesse pendant la période de viduité, le tribunal saisi fait procéder à une expertise par des spécialistes pour déterminer la date du commencement et de de sa fin.</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2- Cas de la veuv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retraite légale de la veuve est de quatre mois et dix jours. C’est une règle prévue par le Coran et reprise par le code de la famille. Elle s’impose à la femme même si le décès du mari intervient avant la consommation du mariag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0" name="Image 3" descr=""/>
          <p:cNvPicPr/>
          <p:nvPr/>
        </p:nvPicPr>
        <p:blipFill>
          <a:blip r:embed="rId1"/>
          <a:stretch/>
        </p:blipFill>
        <p:spPr>
          <a:xfrm>
            <a:off x="0" y="0"/>
            <a:ext cx="8381880" cy="1455840"/>
          </a:xfrm>
          <a:prstGeom prst="rect">
            <a:avLst/>
          </a:prstGeom>
          <a:ln w="0">
            <a:noFill/>
          </a:ln>
        </p:spPr>
      </p:pic>
      <p:sp>
        <p:nvSpPr>
          <p:cNvPr id="51" name="ZoneTexte 3"/>
          <p:cNvSpPr/>
          <p:nvPr/>
        </p:nvSpPr>
        <p:spPr>
          <a:xfrm>
            <a:off x="0" y="1422360"/>
            <a:ext cx="838188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3- Cas de la femme divorcée non enceint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retraite légale n’a lieu que si le mariage a été consommé.  Sa durée varie selon l’état des menstrues de la femme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Si le femme est réglée d’une façon normale, la durée est de trois périodes inter menstruelles (art. 36 al. 2 du code de la famil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Si le femme a des menstrues tardives ou irrégulières, la durée est de trois mois après une attente de neuf mois.</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Si la femme n’a jamais été sujette au flux menstruel ou celle atteint de la ménopause, la durée est de trois moi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3" name="Image 3" descr=""/>
          <p:cNvPicPr/>
          <p:nvPr/>
        </p:nvPicPr>
        <p:blipFill>
          <a:blip r:embed="rId1"/>
          <a:stretch/>
        </p:blipFill>
        <p:spPr>
          <a:xfrm>
            <a:off x="0" y="0"/>
            <a:ext cx="8381880" cy="1455840"/>
          </a:xfrm>
          <a:prstGeom prst="rect">
            <a:avLst/>
          </a:prstGeom>
          <a:ln w="0">
            <a:noFill/>
          </a:ln>
        </p:spPr>
      </p:pic>
      <p:sp>
        <p:nvSpPr>
          <p:cNvPr id="54" name="ZoneTexte 4"/>
          <p:cNvSpPr/>
          <p:nvPr/>
        </p:nvSpPr>
        <p:spPr>
          <a:xfrm>
            <a:off x="0" y="1455840"/>
            <a:ext cx="84200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Les effets de la dissolution sur les liens entre époux</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es effets diffèrent selon que le divorce est révocable ou irrévocab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le divorce révocab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Définition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2f2b20"/>
                </a:solidFill>
                <a:uFillTx/>
                <a:latin typeface="Calibri"/>
              </a:rPr>
              <a:t>S’il est le fait du mari </a:t>
            </a:r>
            <a:r>
              <a:rPr b="0" lang="fr-FR" sz="2000" spc="-1" strike="noStrike">
                <a:solidFill>
                  <a:srgbClr val="2f2b20"/>
                </a:solidFill>
                <a:latin typeface="Calibri"/>
              </a:rPr>
              <a:t>le divorce est toujours révocable à l’exception de celui prononcé à la suite de deux précédents divorces successifs, du divorce intervenu avant la consommation du mariage, du divorce par consentement mutuel, du divorce par khol et celui qui résulte d’un droit d’option consenti par l’époux à son épous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2f2b20"/>
                </a:solidFill>
                <a:uFillTx/>
                <a:latin typeface="Calibri"/>
              </a:rPr>
              <a:t>S’il est prononcé par le tribunal </a:t>
            </a:r>
            <a:r>
              <a:rPr b="0" lang="fr-FR" sz="2000" spc="-1" strike="noStrike">
                <a:solidFill>
                  <a:srgbClr val="2f2b20"/>
                </a:solidFill>
                <a:latin typeface="Calibri"/>
              </a:rPr>
              <a:t>le divorce est révocable dans le cas où la cause du divorce est l’indigence du mari ou le prononcé du serment de continen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Effet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Pendant l’Idda, le mariage continue de produire tous ses effets (entretien de l’épouse, droit à l’héritage</a:t>
            </a:r>
            <a:r>
              <a:rPr b="0" lang="mr-IN" sz="2000" spc="-1" strike="noStrike">
                <a:solidFill>
                  <a:srgbClr val="2f2b20"/>
                </a:solidFill>
                <a:latin typeface="Calibri"/>
              </a:rPr>
              <a:t>…</a:t>
            </a:r>
            <a:r>
              <a:rPr b="0" lang="en-US" sz="2000" spc="-1" strike="noStrike">
                <a:solidFill>
                  <a:srgbClr val="2f2b20"/>
                </a:solidFill>
                <a:latin typeface="Calibri"/>
              </a:rPr>
              <a:t>) à exception du devoir conjugal.</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e mari a le droit de reprendre la vie commune tant que dure la retraite légal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6" name="Image 3" descr=""/>
          <p:cNvPicPr/>
          <p:nvPr/>
        </p:nvPicPr>
        <p:blipFill>
          <a:blip r:embed="rId1"/>
          <a:stretch/>
        </p:blipFill>
        <p:spPr>
          <a:xfrm>
            <a:off x="0" y="0"/>
            <a:ext cx="8381880" cy="1455840"/>
          </a:xfrm>
          <a:prstGeom prst="rect">
            <a:avLst/>
          </a:prstGeom>
          <a:ln w="0">
            <a:noFill/>
          </a:ln>
        </p:spPr>
      </p:pic>
      <p:sp>
        <p:nvSpPr>
          <p:cNvPr id="57" name="Rectangle 3"/>
          <p:cNvSpPr/>
          <p:nvPr/>
        </p:nvSpPr>
        <p:spPr>
          <a:xfrm>
            <a:off x="0" y="1258920"/>
            <a:ext cx="85536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procédure de révocation : </a:t>
            </a:r>
            <a:endParaRPr b="0" lang="en-US" sz="20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mari fait établir l’acte de reprise par deux adoul, lesquels en informent immédiatement le juge. </a:t>
            </a:r>
            <a:endParaRPr b="0" lang="en-US" sz="20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Avant l’homologation de l’acte de reprise, le juge convoque l’épouse pour s’en informer. </a:t>
            </a:r>
            <a:endParaRPr b="0" lang="en-US" sz="2000" spc="-1" strike="noStrike">
              <a:solidFill>
                <a:srgbClr val="2f2b20"/>
              </a:solidFill>
              <a:latin typeface="Calibri"/>
            </a:endParaRPr>
          </a:p>
          <a:p>
            <a:pPr>
              <a:buClr>
                <a:srgbClr val="2f2b2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si elle refuse la reprise de la vie commune, le nouveau code lui donne le droit de recourir à la procédure de divorce par discord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 Le divorce irrévocab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Définition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divorce est irrévocable lorsqu’il intervient avant la consommation du mariage, ou lorsque dans un divorce révocable, le mari n’a pas usé de son droit de reprendre la vie commune pendant l’Idda, ou lorsqu’il s’agit d’un divorce pour la troisième fois consécutive, ou lorsqu’il est prononcé par le juge à l’exception des cas précités, ou enfin dans le cas de khol.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59" name="Image 3" descr=""/>
          <p:cNvPicPr/>
          <p:nvPr/>
        </p:nvPicPr>
        <p:blipFill>
          <a:blip r:embed="rId1"/>
          <a:stretch/>
        </p:blipFill>
        <p:spPr>
          <a:xfrm>
            <a:off x="0" y="0"/>
            <a:ext cx="8381880" cy="1455840"/>
          </a:xfrm>
          <a:prstGeom prst="rect">
            <a:avLst/>
          </a:prstGeom>
          <a:ln w="0">
            <a:noFill/>
          </a:ln>
        </p:spPr>
      </p:pic>
      <p:sp>
        <p:nvSpPr>
          <p:cNvPr id="60" name="ZoneTexte 3"/>
          <p:cNvSpPr/>
          <p:nvPr/>
        </p:nvSpPr>
        <p:spPr>
          <a:xfrm>
            <a:off x="0" y="1455840"/>
            <a:ext cx="838188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effet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mariage est immédiatement dissous. Chacun des nouveaux partenaires peut contracter un nouveau mariage avec le partenaire de son choix.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l s’agit d’un remariage entre les anciens époux, et à la différence du mariage révocable, il s’agira d’un nouveau mariage (conditions de fond et de form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Les effets patrimoniaux du mariag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divorce produit également des effets patrimoniaux. Ainsi toute femme divorcée a droit à la totalité ou reliquat de la dot, au don de consolation et au logemen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En revanche, la pension alimentaire n’est due  que si le divorce est révocab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Pension aliment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pension alimentaire n’est due que pendant la retraite légale. Une distinction doit être faite selon qu’il s’agit d’un divorce révocable ou irrévocabl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 le divorce est révocable, la pension alimentaire est assimilée à la nafaqa pendant le mariage. En effet le lien matrimonial n’étant pas dissou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 le divorce est irrévocable la femme n’a droit qu’au logement</a:t>
            </a:r>
            <a:br>
              <a:rPr sz="1800"/>
            </a:b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62" name="Image 3" descr=""/>
          <p:cNvPicPr/>
          <p:nvPr/>
        </p:nvPicPr>
        <p:blipFill>
          <a:blip r:embed="rId1"/>
          <a:stretch/>
        </p:blipFill>
        <p:spPr>
          <a:xfrm>
            <a:off x="0" y="0"/>
            <a:ext cx="8381880" cy="1455840"/>
          </a:xfrm>
          <a:prstGeom prst="rect">
            <a:avLst/>
          </a:prstGeom>
          <a:ln w="0">
            <a:noFill/>
          </a:ln>
        </p:spPr>
      </p:pic>
      <p:sp>
        <p:nvSpPr>
          <p:cNvPr id="63" name="ZoneTexte 3"/>
          <p:cNvSpPr/>
          <p:nvPr/>
        </p:nvSpPr>
        <p:spPr>
          <a:xfrm>
            <a:off x="0" y="1455840"/>
            <a:ext cx="8263080" cy="5553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f2b20"/>
                </a:solidFill>
                <a:latin typeface="Calibri"/>
              </a:rPr>
              <a:t> </a:t>
            </a:r>
            <a:r>
              <a:rPr b="0" lang="fr-FR" sz="2000" spc="-1" strike="noStrike">
                <a:solidFill>
                  <a:srgbClr val="2f2b20"/>
                </a:solidFill>
                <a:latin typeface="Calibri"/>
              </a:rPr>
              <a:t>Le don de consolation (mout’aa)</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est une somme d’argent à laquelle toute femme divorcée a droit après consommation du mariag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onsidérée auparavant comme une somme servant à consoler la femme divorcée, elle a aujourd’hui un caractère indemnitaire. Pour l’évaluer le juge doit tenir compte de la durée du mariage, la situation financière de l’époux, les motifs du divorce et du degré d’abus avéré dans le recours au divorce par l’époux.</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La do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i le divorce a lieu après consommation du mariage, la femme a droit à la totalité ou le reliquat de la do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 Les biens meubles se trouvant dans le domicile conjugal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a communauté de vie entraine une confusion des biens mobiliers se trouvant au domicile conjugal. Ces biens risquent de faire l’objet de contestations.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biens composant le trousseau de la mariée (Dhaz) sont la propriété de l’épous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Pour les autres objets et biens meubles ils seront attribués à celui qui apporte la preuve qu’il en est propriétair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En l’absence de preuve, il sera fait droit aux dires de l’époux, appuyés par sermen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9160" y="-254160"/>
            <a:ext cx="8501040" cy="711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br>
              <a:rPr sz="6600"/>
            </a:br>
            <a:endParaRPr b="0" lang="en-US" sz="6600" spc="-1" strike="noStrike">
              <a:solidFill>
                <a:srgbClr val="675e47"/>
              </a:solidFill>
              <a:latin typeface="Cambria"/>
            </a:endParaRPr>
          </a:p>
        </p:txBody>
      </p:sp>
      <p:pic>
        <p:nvPicPr>
          <p:cNvPr id="65" name="Image 3" descr=""/>
          <p:cNvPicPr/>
          <p:nvPr/>
        </p:nvPicPr>
        <p:blipFill>
          <a:blip r:embed="rId1"/>
          <a:stretch/>
        </p:blipFill>
        <p:spPr>
          <a:xfrm>
            <a:off x="0" y="0"/>
            <a:ext cx="8381880" cy="1455840"/>
          </a:xfrm>
          <a:prstGeom prst="rect">
            <a:avLst/>
          </a:prstGeom>
          <a:ln w="0">
            <a:noFill/>
          </a:ln>
        </p:spPr>
      </p:pic>
      <p:sp>
        <p:nvSpPr>
          <p:cNvPr id="66" name="ZoneTexte 3"/>
          <p:cNvSpPr/>
          <p:nvPr/>
        </p:nvSpPr>
        <p:spPr>
          <a:xfrm>
            <a:off x="0" y="1455840"/>
            <a:ext cx="8263080" cy="2774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Une distinction est faite selon que ces objet sont d’usage habituel aux hommes, d’usage habituel aux femmes, ou sont indistinctement utilisés par les hommes et les femmes (article 34 du code de la famille).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premiers sont attribués, s’ils sont réclamés par le mari à ce dernier sous sermen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s seconds sont attribués, s’ils sont réclamées par l’épouse, à cette dernière sous serment.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Pour les troisièmes. Ils sont partagés entre les ex-conjoints après serment de l’un et l’autre. Si l’un refuse de prêter serment, ils seront donnés à celui qui l’a prêté. </a:t>
            </a:r>
            <a:endParaRPr b="0" lang="en-US" sz="2000" spc="-1" strike="noStrike">
              <a:solidFill>
                <a:srgbClr val="2f2b2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4-04T21:10:56Z</dcterms:modified>
  <cp:revision>47</cp:revision>
  <dc:subject/>
  <dc:title>    Droit de la famille    Pr.  Kamal LAGTATI </dc:title>
</cp:coreProperties>
</file>